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7D2-8AA0-4901-A709-9DD6DC71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96A-1F1B-4175-9E5C-6ACA3709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2DE-D1D0-4761-A9C5-FBE010E4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542-1814-42F8-80C0-4FBEBEA6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E673-7A59-4D9B-BF2C-53EBAF7D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A60B-75A2-4BEA-8E38-0A855018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8FCA-9433-478C-B4B6-2515AD4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FEF-2796-4401-8CA0-DB28A041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E714-3262-4FA5-8AC1-255FABB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FEDC-C622-4DDC-9862-6EB0DC3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8AE1-6F8B-4CB7-AE4C-075FDD9C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5EA-9342-424A-867A-99FCD3F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79FF-0044-41C2-8D13-9660401C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7DD-FBDE-433D-A12D-D0E77B1D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CAA1-D8F7-4085-903F-F1072161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868-F0B2-4973-AE94-9D47FA84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6C8-9946-4BEC-BF79-658405D0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4E4-DC62-4580-BAD5-058439D4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6B9-6188-40D4-B2D8-0DF23063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C4A-2073-4D6E-BBDA-6CB9BBD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29F-4396-47CA-96AB-6EBB528C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9CB-E3A8-4E35-859D-F0F0120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AA3-DABB-4D02-A52A-220A3F8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523-FE08-4362-BE25-1263667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DE9D-DF7A-4D49-8D88-F076A98292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1D51-79D8-4B2B-A3ED-C58A694704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ill There Was No Remedy”</a:t>
            </a:r>
            <a:br>
              <a:rPr sz="5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Divided Kingdom – Part 2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Quarter 7, Lesson 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saia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Pages 107-109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sai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Prophet in Jerusal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to both Judah and Isra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gan in the last year of Uzzia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during The Fall of Sama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hesied during the reign of Hezekia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been slain during the reign of Manasse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ook of Isai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sions and Discourses Relating to Israel and Judah, and to the Nations (chapters 1-39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messages to Israel and Judah (chapter 1-12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srael’s sins ar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dolatry – 2:5-8; 8:19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mmorality – 1:15; 3:9-11; 5:8,11,18-2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tualism – 1:11-15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is still a great future for God’s faithful remnant – 2:1-4; 7:14; 9:1-2,6-7; 11:1-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od’s Message for the Nations (chapters 13-23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ins of the nations are not igno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ions to be dealt wi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byl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ilist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oa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r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thiop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gyp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ab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y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asts Between God’s People and the Nations (chapters 24-27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’s judgments will begin at His own house, but other nations are still accountable for their own si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favors his peop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will protect His people while punishing the n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bukes and Promises Concerning Israel’s Future (chapters 28-35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people refuse to be taught by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learn from foreign invad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view their wise men as foolish; themselves foolish for putting so much trust in the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sks why they put their trust in Egypt rather than in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will come to realize that they really do need God. He is the only real Help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brighter day and a better way –ch.3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istorical Sect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Chapters 36-39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zekiah and Judah face Assyr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ir delivera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zekiah’s sick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sitors from Babyl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8:42:38Z</dcterms:created>
  <dc:creator>Terry W. Benton</dc:creator>
  <dc:description/>
  <dc:language>en-US</dc:language>
  <cp:lastModifiedBy>Frank D Vines</cp:lastModifiedBy>
  <dcterms:modified xsi:type="dcterms:W3CDTF">2006-01-24T17:52:15Z</dcterms:modified>
  <cp:revision>6</cp:revision>
  <dc:subject/>
  <dc:title>Till There Was No Remedy The Divided Kingdom –Part 2</dc:title>
</cp:coreProperties>
</file>